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FF8-D036-4AC8-823C-8DA51621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6349-B09E-4094-B6B5-3B8247AB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FD7D-5596-4D38-B904-3128063F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866-E754-464F-A536-DB04F909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1E2-D90B-4F46-8D8A-36B5E7B3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A8E-7869-4A4F-A59E-4BCEFD8B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0CC9-946D-45D2-A9B2-3FB44B71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B567-8113-40F4-B9BB-426260C4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FB9-8C27-4A1C-BC7F-496A9C46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C8F2-0E8A-45FC-BA92-8B5ED593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7DA-46B1-4E65-AA1F-E5E7C039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AA3-85D6-4C13-9C96-F172408D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F7895C-0A95-4E2A-9140-CC90C5EF03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04920" y="233280"/>
            <a:ext cx="4934160" cy="639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93800" y="100080"/>
            <a:ext cx="7238880" cy="4647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14400" y="5029200"/>
            <a:ext cx="685800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ren roamed the streets of large cities in search of money, food, and shelter.  They were exposed to crime and disease.  Many banded together to form gangs as a method of pro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7162560" cy="5105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5560" y="5835600"/>
            <a:ext cx="848052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eat duty of the Orphan Trains was to get these children ou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surroundings and into loving Christian homes in the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7480" y="276120"/>
            <a:ext cx="8134560" cy="64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en the trains pulled into town, the children we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eaned up and placed on stages in front of potenti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ents.  Many people saw these needy children 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 source of cheap labor to work on their large far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r some children they did find wonderful loving ho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ere they grew up to be successful people.  The ma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o created the Children's Aid Foundation and starte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Orphan Trains believed that farmers out west wou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elcome the homeless children and treat them like thei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wn children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ther children were not so lucky with their new hom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y found the move very painful and confusing.  Som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 the older boys ran away and others were not trea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ell by their new parents.  Many were abu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477120" cy="6324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15560" y="1542960"/>
            <a:ext cx="144396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therford County Schools</cp:lastModifiedBy>
  <dcterms:modified xsi:type="dcterms:W3CDTF">2007-04-22T18:55:48Z</dcterms:modified>
  <cp:revision>1</cp:revision>
  <dc:subject/>
  <dc:title>Slide 1</dc:title>
</cp:coreProperties>
</file>